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D105-C68C-4953-8F5D-FC75A7930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6B7D-7259-4661-A92B-9C60A7E27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95FB-E8A1-4A6E-BC8F-4289D7516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C8E0-F632-4D41-B430-EBAF54AB0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D80DB-02D9-45EB-BE3B-CCF3EB30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48CC5-B3DD-4E7E-A1E1-D8060ED76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F48AF-1C51-48D1-900E-15BECC3F1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20430-4B8D-42BF-8199-4F0CE847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8B68-44CB-4AD5-834B-F75F06C0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F53E-240B-4657-B844-DD2384FAB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F21D4-976E-4A68-80EA-A2E768BE0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26458-ABCE-4E92-8C58-C7C79481B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9ADC-5F75-40CF-8543-240C0136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11C9-9B16-4E21-802C-7ADC7429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2438-0A12-4F5B-ABC1-F1229DACA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A434-12BB-4FD4-B910-58628DF7552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2CE1-1CA6-4848-B2AE-F3A96174E3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a:rPr>
              <a:t>Capital Flows Management in Mozambique</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on Manguinhane</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rial"/>
              </a:rPr>
              <a:t>&amp;</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sto Mafambissa</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enhagen, June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COMPOSITION</a:t>
            </a:r>
            <a:endParaRPr b="0" lang="en-US" sz="3200" spc="-1" strike="noStrike">
              <a:solidFill>
                <a:srgbClr val="000000"/>
              </a:solidFill>
              <a:latin typeface="Arial"/>
            </a:endParaRPr>
          </a:p>
        </p:txBody>
      </p:sp>
      <p:sp>
        <p:nvSpPr>
          <p:cNvPr id="85" name=""/>
          <p:cNvSpPr txBox="1"/>
          <p:nvPr/>
        </p:nvSpPr>
        <p:spPr>
          <a:xfrm>
            <a:off x="324000" y="1125360"/>
            <a:ext cx="8496000" cy="5112000"/>
          </a:xfrm>
          <a:prstGeom prst="rect">
            <a:avLst/>
          </a:prstGeom>
          <a:noFill/>
          <a:ln w="0">
            <a:noFill/>
          </a:ln>
        </p:spPr>
        <p:txBody>
          <a:bodyPr anchor="t">
            <a:normAutofit/>
          </a:bodyPr>
          <a:p>
            <a:pPr lvl="2"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1:</a:t>
            </a:r>
            <a:r>
              <a:rPr b="0" lang="en-US" sz="2000" spc="-1" strike="noStrike">
                <a:solidFill>
                  <a:srgbClr val="000000"/>
                </a:solidFill>
                <a:latin typeface="Arial Narrow"/>
              </a:rPr>
              <a:t> External Financing and Net Capital Inflows Composition in Mozambique</a:t>
            </a:r>
            <a:endParaRPr b="0" lang="en-US" sz="20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2161-4847-445B-9AB5-B51A6D68F5B6}"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8445-CE34-4BED-B920-E680B77903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3" descr=""/>
          <p:cNvPicPr/>
          <p:nvPr/>
        </p:nvPicPr>
        <p:blipFill>
          <a:blip r:embed="rId1"/>
          <a:stretch/>
        </p:blipFill>
        <p:spPr>
          <a:xfrm>
            <a:off x="250920" y="1628640"/>
            <a:ext cx="8642160" cy="46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DETERMINANTS</a:t>
            </a:r>
            <a:endParaRPr b="0" lang="en-US" sz="3200" spc="-1" strike="noStrike">
              <a:solidFill>
                <a:srgbClr val="000000"/>
              </a:solidFill>
              <a:latin typeface="Arial"/>
            </a:endParaRPr>
          </a:p>
        </p:txBody>
      </p:sp>
      <p:sp>
        <p:nvSpPr>
          <p:cNvPr id="90" name=""/>
          <p:cNvSpPr txBox="1"/>
          <p:nvPr/>
        </p:nvSpPr>
        <p:spPr>
          <a:xfrm>
            <a:off x="324000" y="1125360"/>
            <a:ext cx="8496000" cy="511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ce stability, Fiscal discipline, Improvement of economic infrastructure, and creation of better environment for private investment (Ndikumana, 2003).</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o-economic and political stability (World Bank, 2003)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owment of Natural Resources, Economic stability, strategic location(Castel-Branco, 2002 and Noronha,2009)</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ax breaks (Noronha, 2009 and Bolnick, 2004). </a:t>
            </a: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6E07-54F8-4806-A582-3711795E7FD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FCF1-DE4D-4AAD-BFBF-ED640B5CB09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94" name=""/>
          <p:cNvSpPr txBox="1"/>
          <p:nvPr/>
        </p:nvSpPr>
        <p:spPr>
          <a:xfrm>
            <a:off x="324000" y="1125360"/>
            <a:ext cx="8496000" cy="5112000"/>
          </a:xfrm>
          <a:prstGeom prst="rect">
            <a:avLst/>
          </a:prstGeom>
          <a:noFill/>
          <a:ln w="0">
            <a:noFill/>
          </a:ln>
        </p:spPr>
        <p:txBody>
          <a:bodyPr anchor="t">
            <a:normAutofit fontScale="92000"/>
          </a:bodyPr>
          <a:p>
            <a:pPr lvl="2" marL="1051560" indent="-21024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GDP Growth</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endence from primary sector;</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Employemen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50% of the budget has been financed by OD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DA has been the main source for financing the Plan for Poverty Reduction (education, water supply   and health);</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is a positive relationship between the ODA flows and GDP growth, i.e, an increase of 1% on ODA increases GDP in 0.17% in Mozambique (Afonso and Ribeiro,1999).</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9677-769F-4F48-BBCD-AE6DCDAB37C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B30B-1A38-4351-96C6-7EBE935BCB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98" name=""/>
          <p:cNvSpPr txBox="1"/>
          <p:nvPr/>
        </p:nvSpPr>
        <p:spPr>
          <a:xfrm>
            <a:off x="324000" y="1125360"/>
            <a:ext cx="8496000" cy="5112000"/>
          </a:xfrm>
          <a:prstGeom prst="rect">
            <a:avLst/>
          </a:prstGeom>
          <a:noFill/>
          <a:ln w="0">
            <a:noFill/>
          </a:ln>
        </p:spPr>
        <p:txBody>
          <a:bodyPr anchor="t">
            <a:normAutofit/>
          </a:bodyPr>
          <a:p>
            <a:pPr lvl="2" marL="271440" indent="-228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Exchange Rate Appreciation</a:t>
            </a:r>
            <a:r>
              <a:rPr b="1"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aph 6: Evolution of ODA Inflow (%) and Exchange Rate (%)</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a:t>
            </a:r>
            <a:r>
              <a:rPr b="0" lang="en-US" sz="2000" spc="-1" strike="noStrike">
                <a:solidFill>
                  <a:srgbClr val="000000"/>
                </a:solidFill>
                <a:latin typeface="Arial"/>
              </a:rPr>
              <a:t>Based on the Bank of Mozambique </a:t>
            </a:r>
            <a:endParaRPr b="0" lang="en-US" sz="20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66E6-40F5-45FE-913E-42895D4530F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FC0D-6207-4299-A9F7-162E7589A8F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1" name="Object 2"/>
          <p:cNvGraphicFramePr/>
          <p:nvPr/>
        </p:nvGraphicFramePr>
        <p:xfrm>
          <a:off x="684360" y="2133720"/>
          <a:ext cx="7991280" cy="3456000"/>
        </p:xfrm>
        <a:graphic>
          <a:graphicData uri="http://schemas.openxmlformats.org/presentationml/2006/ole">
            <p:oleObj progId="Excel.Sheet.12" r:id="rId1" spid="">
              <p:embed/>
              <p:pic>
                <p:nvPicPr>
                  <p:cNvPr id="102" name="Object 2" descr=""/>
                  <p:cNvPicPr/>
                  <p:nvPr/>
                </p:nvPicPr>
                <p:blipFill>
                  <a:blip r:embed="rId2"/>
                  <a:stretch/>
                </p:blipFill>
                <p:spPr>
                  <a:xfrm>
                    <a:off x="684360" y="2133720"/>
                    <a:ext cx="799128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04" name=""/>
          <p:cNvSpPr txBox="1"/>
          <p:nvPr/>
        </p:nvSpPr>
        <p:spPr>
          <a:xfrm>
            <a:off x="324000" y="1125360"/>
            <a:ext cx="8496000" cy="5112000"/>
          </a:xfrm>
          <a:prstGeom prst="rect">
            <a:avLst/>
          </a:prstGeom>
          <a:noFill/>
          <a:ln w="0">
            <a:noFill/>
          </a:ln>
        </p:spPr>
        <p:txBody>
          <a:bodyPr anchor="t">
            <a:normAutofit fontScale="95000"/>
          </a:bodyPr>
          <a:p>
            <a:pPr lvl="2" marL="1085760" indent="-217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has been accumulating huge amounts of foreign reserves. In 2010, the accumulated foreign reserves were USD 1700 millions, 228% above of its value in 1998 and these reserves has corresponded in average to 6 months of goods imports. However, according to international conventional rules they are above of what is advised to face adverse external shock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ording to IMF (2009), in 2008, Mozambique</a:t>
            </a:r>
            <a:r>
              <a:rPr b="1" lang="en-US" sz="2400" spc="-1" strike="noStrike">
                <a:solidFill>
                  <a:srgbClr val="000000"/>
                </a:solidFill>
                <a:latin typeface="Arial Narrow"/>
              </a:rPr>
              <a:t> </a:t>
            </a:r>
            <a:r>
              <a:rPr b="0" lang="en-US" sz="2400" spc="-1" strike="noStrike">
                <a:solidFill>
                  <a:srgbClr val="000000"/>
                </a:solidFill>
                <a:latin typeface="Arial Narrow"/>
              </a:rPr>
              <a:t>was negatively affected by the increase in the international prices. However, because of the significant inflows of capital, this negative impact was offset and the overall result was an increase in the gross external reserves of about USD 140 million. </a:t>
            </a:r>
            <a:endParaRPr b="0" lang="en-US" sz="24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8B69-7057-48A6-A3BD-5E022F9BCFB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C6BA-7845-4C98-9A2A-2DE903026D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08" name=""/>
          <p:cNvSpPr txBox="1"/>
          <p:nvPr/>
        </p:nvSpPr>
        <p:spPr>
          <a:xfrm>
            <a:off x="324000" y="1125360"/>
            <a:ext cx="8496000" cy="5112000"/>
          </a:xfrm>
          <a:prstGeom prst="rect">
            <a:avLst/>
          </a:prstGeom>
          <a:noFill/>
          <a:ln w="0">
            <a:noFill/>
          </a:ln>
        </p:spPr>
        <p:txBody>
          <a:bodyPr anchor="t">
            <a:normAutofit/>
          </a:bodyPr>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Capital Flows and Reserves Accumulation</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ank of Mozambique in managing capital inflows has used a market-based approach which involves financial transactions between the Central Bank and the Market, mainly with the commercial bank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is approach the traditional instruments used by the Bank of Mozambique has been the treasure bills and repo and reverse repos auctions under the day-to-day liquidity adjustment facility.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 in case of excess of foreign reserves the Bank of Mozambique intervenes in the foreign exchange market buying this excess, leading to increase of money supply, by increasing monetary base, which may contribute to more credit to the economy and inflation pressure. Therefore to mop the excess of money supply the Bank of Mozambique sells the treasure bills mopping the excess of liquidit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FC83-7397-429F-9368-4307B06F5CE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ACAB-C5CE-4684-B5F6-C19B558C0E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6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12" name=""/>
          <p:cNvSpPr txBox="1"/>
          <p:nvPr/>
        </p:nvSpPr>
        <p:spPr>
          <a:xfrm>
            <a:off x="324000" y="907920"/>
            <a:ext cx="8496000" cy="53294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ever, these operations bring immediate costs to the Central Bank related: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the interest that it has to pay for the sale of treasure bills. However, can brings revenue to the Central Bank if it increase the return over foreign exchange assets. So the costs of these operations will be the differential between the yields on the treasure bills and return on foreign exchange asset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Inflation Presures that result when Bank of Mozambique</a:t>
            </a:r>
            <a:r>
              <a:rPr b="0" lang="en-US" sz="2400" spc="-1" strike="noStrike">
                <a:solidFill>
                  <a:srgbClr val="000000"/>
                </a:solidFill>
                <a:latin typeface="Arial Narrow"/>
              </a:rPr>
              <a:t> intervenes in the foreign exchange market buying this excess which leads to increase of money supply, by increasing monetary base, contributing to more credit to the economy.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4171-3CA2-40B7-AF05-F05AF8583EF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0005-0098-4A92-97B3-F0A1EAFA97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16" name=""/>
          <p:cNvSpPr txBox="1"/>
          <p:nvPr/>
        </p:nvSpPr>
        <p:spPr>
          <a:xfrm>
            <a:off x="324000" y="907920"/>
            <a:ext cx="8496000" cy="53294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generally the domestic interest rate of Treasure Bills is above the international interest rate making the returns of the Bank of Mozambique very low. Beyond that, a huge quantity of foreign exchange accumulated by the central bank are denominated in USD what actually constitutes disadvantage to Mozambique, as at international level, the interest rate for USD applications has been too low, and close to zero Amarcy (2009).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eign exchange accumulation has been used for precautionary purposes, but they could be used to boost the investments, aggregate demand which could also contribute for enlargement of fiscal base.</a:t>
            </a:r>
            <a:endParaRPr b="0" lang="en-US" sz="24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43F7-A27D-457B-8946-75136087975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8657-303A-4A7E-AA80-947B78ECEB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CONCLUSIONS AND POLICY IMPLICATIONS</a:t>
            </a:r>
            <a:endParaRPr b="0" lang="en-US" sz="3600" spc="-1" strike="noStrike">
              <a:solidFill>
                <a:srgbClr val="000000"/>
              </a:solidFill>
              <a:latin typeface="Arial"/>
            </a:endParaRPr>
          </a:p>
        </p:txBody>
      </p:sp>
      <p:sp>
        <p:nvSpPr>
          <p:cNvPr id="120" name=""/>
          <p:cNvSpPr txBox="1"/>
          <p:nvPr/>
        </p:nvSpPr>
        <p:spPr>
          <a:xfrm>
            <a:off x="179280" y="907920"/>
            <a:ext cx="8785440" cy="53294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zambique has been receiving considerable amounts of capital inflows, particularly in the form of Official Development Assistance and Foreign Direct Investments, which have been contributing to the economic growth and in minimizing the effects of external shocks but  also contribute to exchange rate appreciation and inflation volatility.</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conomic policy reforms socio-economic and political stability, the endowment of Natural Resources, strategic location have been the principal determinants for the capital inflows in Mozambiqu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ank of Mozambique in managing capital inflows has used sterilization operations which brings costs to the Bank of Mozambiqu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eign exchange accumulation, by the Bank of Mozambique, has been used for precautionary purposes, but they could be used to boost the investments, aggregate demand which could also contributes for enlargement of fiscal b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95BB-2CFA-4445-AC1A-0B7CE08BFA6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AFD4-9A47-422D-BB63-C0870E214B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CONCLUSIONS AND POLICY IMPLICATIONS</a:t>
            </a:r>
            <a:endParaRPr b="0" lang="en-US" sz="3600" spc="-1" strike="noStrike">
              <a:solidFill>
                <a:srgbClr val="000000"/>
              </a:solidFill>
              <a:latin typeface="Arial"/>
            </a:endParaRPr>
          </a:p>
        </p:txBody>
      </p:sp>
      <p:sp>
        <p:nvSpPr>
          <p:cNvPr id="124" name=""/>
          <p:cNvSpPr txBox="1"/>
          <p:nvPr/>
        </p:nvSpPr>
        <p:spPr>
          <a:xfrm>
            <a:off x="179280" y="907920"/>
            <a:ext cx="8785440" cy="532944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ead of using the monetary policy to manage the capital inflows, Mozambique could adopt a combination of Monetary, Fiscal and Trade Policy. This combination could reduce the excessive effort of the monetary policy.</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should redirect capital inflows (from extractive industries) to new growth –promoting, e.g labor intensive are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should invest more in financial and human resources to establish mechanisms for systematic monitoring of the inflows and outflows of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118A-69FF-4F2E-8C4F-7D59DE4D295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DA09-C24A-4040-B417-DD6ACF2700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cc"/>
                </a:solidFill>
                <a:latin typeface="Arial"/>
              </a:rPr>
              <a:t>Outline</a:t>
            </a:r>
            <a:endParaRPr b="0" lang="en-US" sz="4400" spc="-1" strike="noStrike">
              <a:solidFill>
                <a:srgbClr val="000000"/>
              </a:solidFill>
              <a:latin typeface="Arial"/>
            </a:endParaRPr>
          </a:p>
        </p:txBody>
      </p:sp>
      <p:sp>
        <p:nvSpPr>
          <p:cNvPr id="51" name=""/>
          <p:cNvSpPr txBox="1"/>
          <p:nvPr/>
        </p:nvSpPr>
        <p:spPr>
          <a:xfrm>
            <a:off x="250920" y="1267920"/>
            <a:ext cx="8642160" cy="4969080"/>
          </a:xfrm>
          <a:prstGeom prst="rect">
            <a:avLst/>
          </a:prstGeom>
          <a:noFill/>
          <a:ln w="0">
            <a:noFill/>
          </a:ln>
        </p:spPr>
        <p:txBody>
          <a:bodyPr anchor="t">
            <a:normAutofit/>
          </a:bodyPr>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INTRODUCTION</a:t>
            </a:r>
            <a:r>
              <a:rPr b="1"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LITERATURE REVIEW: </a:t>
            </a:r>
            <a:r>
              <a:rPr b="0" lang="en-US" sz="1800" spc="-1" strike="noStrike">
                <a:solidFill>
                  <a:srgbClr val="000000"/>
                </a:solidFill>
                <a:latin typeface="Arial Narrow"/>
              </a:rPr>
              <a:t>DETERMINANTS, IMPACTS AND MANAGEMENT OF CAPITAL FLOWS</a:t>
            </a:r>
            <a:r>
              <a:rPr b="0"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CAPITAL FLOW</a:t>
            </a:r>
            <a:r>
              <a:rPr b="1" lang="en-US" sz="1800" spc="-1" strike="noStrike">
                <a:solidFill>
                  <a:srgbClr val="000000"/>
                </a:solidFill>
                <a:latin typeface="Arial Narrow"/>
              </a:rPr>
              <a:t>S TO</a:t>
            </a:r>
            <a:r>
              <a:rPr b="1" lang="pt-PT" sz="1800" spc="-1" strike="noStrike">
                <a:solidFill>
                  <a:srgbClr val="000000"/>
                </a:solidFill>
                <a:latin typeface="Arial Narrow"/>
              </a:rPr>
              <a:t> MOZAMBIQUE: </a:t>
            </a:r>
            <a:r>
              <a:rPr b="0" lang="en-US" sz="1800" spc="-1" strike="noStrike">
                <a:solidFill>
                  <a:srgbClr val="000000"/>
                </a:solidFill>
                <a:latin typeface="Arial Narrow"/>
              </a:rPr>
              <a:t>DETERMINANTS, Trends and composition</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PITAL FLOW TO MOZAMBIQUE: </a:t>
            </a:r>
            <a:r>
              <a:rPr b="0" lang="en-US" sz="1800" spc="-1" strike="noStrike">
                <a:solidFill>
                  <a:srgbClr val="000000"/>
                </a:solidFill>
                <a:latin typeface="Arial Narrow"/>
              </a:rPr>
              <a:t>IMPACTS AND MANAGEMEN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 </a:t>
            </a:r>
            <a:r>
              <a:rPr b="1" lang="pt-PT" sz="1800" spc="-1" strike="noStrike">
                <a:solidFill>
                  <a:srgbClr val="000000"/>
                </a:solidFill>
                <a:latin typeface="Arial Narrow"/>
              </a:rPr>
              <a:t>CONCLUSIONS AND POLICY IMPLICATIONS</a:t>
            </a:r>
            <a:r>
              <a:rPr b="1"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8750-FD91-4B69-9B01-B0496D6C65C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8F60-8F44-4B96-AAAB-6B2001611F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0" lang="en-GB" sz="8000" spc="-1" strike="noStrike">
                <a:solidFill>
                  <a:srgbClr val="0000cc"/>
                </a:solidFill>
                <a:latin typeface="Arial Narrow"/>
              </a:rPr>
              <a:t>THANKS</a:t>
            </a:r>
            <a:endParaRPr b="0" lang="en-US" sz="80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DD1F-8F51-4762-825E-ED55797533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8724-7419-4EE6-BCD2-BF981DF519B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troduction</a:t>
            </a:r>
            <a:endParaRPr b="0" lang="en-US" sz="3200" spc="-1" strike="noStrike">
              <a:solidFill>
                <a:srgbClr val="000000"/>
              </a:solidFill>
              <a:latin typeface="Arial"/>
            </a:endParaRPr>
          </a:p>
        </p:txBody>
      </p:sp>
      <p:sp>
        <p:nvSpPr>
          <p:cNvPr id="55"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zambique has one of the world’s highest GDP growth rates averaging 7.5% over the last past 10 years, although this performance is vulnerable to external chock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orts and imports have grown in average by 16.7% and 9%, respectively,  in the last ten year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trade balance deficit has been in average at 14% and the Current Account deficit has been at 13% of GDP and has been  partially offset by a surplus of capital account;</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fore 2003, the Mozambican Financial System was dominated entirely by state owned banks representing about 95 percent of total financial system assets and the macroeconomic environment was unstable. Inflation has been high and volatile affecting the volatility of real interest rate and promoting financial system dollarization as banks and borrowers were attracted by the much lower and stable interest rates on dollar denominated credit.</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1AD3-2E5C-4539-B93D-AD20883FA4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EFFF-4E51-4B32-BFB4-DAA56C9A1D2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troduction</a:t>
            </a:r>
            <a:endParaRPr b="0" lang="en-US" sz="3200" spc="-1" strike="noStrike">
              <a:solidFill>
                <a:srgbClr val="000000"/>
              </a:solidFill>
              <a:latin typeface="Arial"/>
            </a:endParaRPr>
          </a:p>
        </p:txBody>
      </p:sp>
      <p:sp>
        <p:nvSpPr>
          <p:cNvPr id="59"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introduction of some financial sector development programs such as Financial Sector Technical Assistance Program (FSTAP), Rural Finance Support Program (RFSP) and adoption of more Basel Principles and International Financial Reporting Standards (IFRS) resulted in the improvement of banking sector’s soundnes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This has contributed for attracting  private investment in Mozambique particularly the Foreign Direct Investment that has been growing fastly and with the exploration of Coal and Gas it is expected a huge FDI inflow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Beyond the FDI inflows, Mozambique has been receiving considerable inflows of Official Development Aid (ODA). This inflows (will) account a lot in the Real Exchange Rate appreciation and in the exposition of Mozambique to external Shock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The main objective of this research is to discuss how the capital inflows have been managed in Mozambique.</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30EF-1F9A-46C3-BD59-49BEBFCBEF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F37D-1C1F-404C-A32F-96222756E9F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Arial"/>
              </a:rPr>
              <a:t>LITERATURE REVIEW: </a:t>
            </a:r>
            <a:r>
              <a:rPr b="0" lang="en-US" sz="2800" spc="-1" strike="noStrike">
                <a:solidFill>
                  <a:srgbClr val="0000ff"/>
                </a:solidFill>
                <a:latin typeface="Arial"/>
              </a:rPr>
              <a:t>CONCEPT</a:t>
            </a:r>
            <a:endParaRPr b="0" lang="en-US" sz="2800" spc="-1" strike="noStrike">
              <a:solidFill>
                <a:srgbClr val="000000"/>
              </a:solidFill>
              <a:latin typeface="Arial"/>
            </a:endParaRPr>
          </a:p>
        </p:txBody>
      </p:sp>
      <p:sp>
        <p:nvSpPr>
          <p:cNvPr id="63"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pital flow can be defined as movement of financial resources from one country to another (Obadan, 2004).  </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Official flows:</a:t>
            </a:r>
            <a:r>
              <a:rPr b="0" i="1" lang="en-US" sz="2400" spc="-1" strike="noStrike">
                <a:solidFill>
                  <a:srgbClr val="000000"/>
                </a:solidFill>
                <a:latin typeface="Arial Narrow"/>
              </a:rPr>
              <a:t> “</a:t>
            </a:r>
            <a:r>
              <a:rPr b="0" lang="en-US" sz="2400" spc="-1" strike="noStrike">
                <a:solidFill>
                  <a:srgbClr val="000000"/>
                </a:solidFill>
                <a:latin typeface="Arial Narrow"/>
              </a:rPr>
              <a:t>Official flows include official development assistance (ODA), and other official development flows </a:t>
            </a:r>
            <a:r>
              <a:rPr b="0" lang="en-US" sz="2400" spc="-1" strike="noStrike">
                <a:solidFill>
                  <a:srgbClr val="000000"/>
                </a:solidFill>
                <a:latin typeface="Arial Narrow"/>
              </a:rPr>
              <a:t>	</a:t>
            </a:r>
            <a:r>
              <a:rPr b="0" lang="en-US" sz="2400" spc="-1" strike="noStrike">
                <a:solidFill>
                  <a:srgbClr val="000000"/>
                </a:solidFill>
                <a:latin typeface="Arial Narrow"/>
              </a:rPr>
              <a:t>(ODF).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Export credits:</a:t>
            </a:r>
            <a:r>
              <a:rPr b="0" i="1" lang="en-US" sz="2400" spc="-1" strike="noStrike">
                <a:solidFill>
                  <a:srgbClr val="000000"/>
                </a:solidFill>
                <a:latin typeface="Arial Narrow"/>
              </a:rPr>
              <a:t> </a:t>
            </a:r>
            <a:r>
              <a:rPr b="0" lang="en-US" sz="2400" spc="-1" strike="noStrike">
                <a:solidFill>
                  <a:srgbClr val="000000"/>
                </a:solidFill>
                <a:latin typeface="Arial Narrow"/>
              </a:rPr>
              <a:t>These are credits designed to finance specific purchases of goods or contractors’ services, the importer agrees to postpone payment to a later dat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Foreign private flows:</a:t>
            </a:r>
            <a:r>
              <a:rPr b="0" i="1" lang="en-US" sz="2400" spc="-1" strike="noStrike">
                <a:solidFill>
                  <a:srgbClr val="000000"/>
                </a:solidFill>
                <a:latin typeface="Arial Narrow"/>
              </a:rPr>
              <a:t> </a:t>
            </a:r>
            <a:r>
              <a:rPr b="0" lang="en-US" sz="2400" spc="-1" strike="noStrike">
                <a:solidFill>
                  <a:srgbClr val="000000"/>
                </a:solidFill>
                <a:latin typeface="Arial Narrow"/>
              </a:rPr>
              <a:t>These comprise international bank loans and bond issues, foreign private direct investment, and portfolio investment. </a:t>
            </a:r>
            <a:endParaRPr b="0" lang="en-US" sz="2400" spc="-1" strike="noStrike">
              <a:solidFill>
                <a:srgbClr val="000000"/>
              </a:solidFill>
              <a:latin typeface="Arial"/>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9E3C-743B-41D8-AB2D-6B24DC669C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8DF6-4201-4F36-B0EB-8232486BF04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Arial"/>
              </a:rPr>
              <a:t>LITERATURE REVIEW: </a:t>
            </a:r>
            <a:r>
              <a:rPr b="0" lang="en-US" sz="2800" spc="-1" strike="noStrike">
                <a:solidFill>
                  <a:srgbClr val="0000ff"/>
                </a:solidFill>
                <a:latin typeface="Arial"/>
              </a:rPr>
              <a:t>DETERMINANTS</a:t>
            </a:r>
            <a:endParaRPr b="0" lang="en-US" sz="2800" spc="-1" strike="noStrike">
              <a:solidFill>
                <a:srgbClr val="000000"/>
              </a:solidFill>
              <a:latin typeface="Arial"/>
            </a:endParaRPr>
          </a:p>
        </p:txBody>
      </p:sp>
      <p:sp>
        <p:nvSpPr>
          <p:cNvPr id="6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dikumana (2003), indicates four main constraints for private capital inflows to developing countrie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ness of the macroeconomic environment;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developed financial system;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 country risk; and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change rate misalignment.</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inhart et al (1994), indicates the role of macroeconomic policies in attracting capital inflow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croeconomic stabilization program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itutional reforms (liberalization of the domestic capital market);</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licies that credibly increase the rate of return on domestic investment projects (tax credits, debt-equity swaps, etc.). </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E051-A7C6-43B1-9CB2-6CCEC197E2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1597-80CA-4D3F-8F0C-D28AE035E53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ff"/>
                </a:solidFill>
                <a:latin typeface="Arial"/>
              </a:rPr>
              <a:t>LITERATURE REVIEW: </a:t>
            </a:r>
            <a:r>
              <a:rPr b="0" lang="en-US" sz="3200" spc="-1" strike="noStrike">
                <a:solidFill>
                  <a:srgbClr val="0000ff"/>
                </a:solidFill>
                <a:latin typeface="Arial"/>
              </a:rPr>
              <a:t>IMPACTS </a:t>
            </a:r>
            <a:endParaRPr b="0" lang="en-US" sz="3200" spc="-1" strike="noStrike">
              <a:solidFill>
                <a:srgbClr val="000000"/>
              </a:solidFill>
              <a:latin typeface="Arial"/>
            </a:endParaRPr>
          </a:p>
        </p:txBody>
      </p:sp>
      <p:sp>
        <p:nvSpPr>
          <p:cNvPr id="71" name=""/>
          <p:cNvSpPr txBox="1"/>
          <p:nvPr/>
        </p:nvSpPr>
        <p:spPr>
          <a:xfrm>
            <a:off x="324000" y="1125360"/>
            <a:ext cx="8496000" cy="5112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 domestic;</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l Exchange Rate Appreci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ssive Accumulation of Foreign Exchange Reserves (FER);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dening of Current Account Defici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etization; and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 Crisis.</a:t>
            </a:r>
            <a:endParaRPr b="0" lang="en-US" sz="2400" spc="-1" strike="noStrike">
              <a:solidFill>
                <a:srgbClr val="000000"/>
              </a:solidFill>
              <a:latin typeface="Arial"/>
            </a:endParaRPr>
          </a:p>
        </p:txBody>
      </p:sp>
      <p:sp>
        <p:nvSpPr>
          <p:cNvPr id="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9099-5738-4642-B50C-91BB5BE8FC8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DFAC-D352-4B75-B17D-902FBD59F7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ff"/>
                </a:solidFill>
                <a:latin typeface="Arial"/>
              </a:rPr>
              <a:t>LITERATURE REVIEW: </a:t>
            </a:r>
            <a:r>
              <a:rPr b="0" lang="en-US" sz="3200" spc="-1" strike="noStrike">
                <a:solidFill>
                  <a:srgbClr val="0000ff"/>
                </a:solidFill>
                <a:latin typeface="Arial"/>
              </a:rPr>
              <a:t>MANAGEMENT</a:t>
            </a:r>
            <a:endParaRPr b="0" lang="en-US" sz="3200" spc="-1" strike="noStrike">
              <a:solidFill>
                <a:srgbClr val="000000"/>
              </a:solidFill>
              <a:latin typeface="Arial"/>
            </a:endParaRPr>
          </a:p>
        </p:txBody>
      </p:sp>
      <p:sp>
        <p:nvSpPr>
          <p:cNvPr id="75" name=""/>
          <p:cNvSpPr txBox="1"/>
          <p:nvPr/>
        </p:nvSpPr>
        <p:spPr>
          <a:xfrm>
            <a:off x="324000" y="1125360"/>
            <a:ext cx="8496000" cy="5112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netary and Exchange Rate Policy: </a:t>
            </a:r>
            <a:r>
              <a:rPr b="0" lang="en-US" sz="2400" spc="-1" strike="noStrike">
                <a:solidFill>
                  <a:srgbClr val="000000"/>
                </a:solidFill>
                <a:latin typeface="Arial Narrow"/>
              </a:rPr>
              <a:t>Sterilization.</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scal policy: </a:t>
            </a:r>
            <a:r>
              <a:rPr b="0" lang="en-US" sz="2400" spc="-1" strike="noStrike">
                <a:solidFill>
                  <a:srgbClr val="000000"/>
                </a:solidFill>
                <a:latin typeface="Arial Narrow"/>
              </a:rPr>
              <a:t>Tightening to lower aggregate demand and curb the inflationary impact of capital inflow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de policy: </a:t>
            </a:r>
            <a:r>
              <a:rPr b="0" lang="en-US" sz="2400" spc="-1" strike="noStrike">
                <a:solidFill>
                  <a:srgbClr val="000000"/>
                </a:solidFill>
                <a:latin typeface="Arial Narrow"/>
              </a:rPr>
              <a:t>Policies to insulate the export sector from real exchange rate appreciation.</a:t>
            </a: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nking regulation and supervision: </a:t>
            </a:r>
            <a:r>
              <a:rPr b="0" lang="en-US" sz="2400" spc="-1" strike="noStrike">
                <a:solidFill>
                  <a:srgbClr val="000000"/>
                </a:solidFill>
                <a:latin typeface="Arial Narrow"/>
              </a:rPr>
              <a:t>Regulation that limits the exposure of banks to the volatility in equity and real estate markets could help insulate the banking system from the bubbles associated with sizable capital inflows.</a:t>
            </a: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626D-9E5E-45C3-AE63-F7A7B444459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9EE4-AA9A-45A4-87E4-A4D65419E6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TRENDS</a:t>
            </a:r>
            <a:endParaRPr b="0" lang="en-US" sz="3200" spc="-1" strike="noStrike">
              <a:solidFill>
                <a:srgbClr val="000000"/>
              </a:solidFill>
              <a:latin typeface="Arial"/>
            </a:endParaRPr>
          </a:p>
        </p:txBody>
      </p:sp>
      <p:sp>
        <p:nvSpPr>
          <p:cNvPr id="79" name=""/>
          <p:cNvSpPr txBox="1"/>
          <p:nvPr/>
        </p:nvSpPr>
        <p:spPr>
          <a:xfrm>
            <a:off x="324000" y="1125360"/>
            <a:ext cx="8496000" cy="5112000"/>
          </a:xfrm>
          <a:prstGeom prst="rect">
            <a:avLst/>
          </a:prstGeom>
          <a:noFill/>
          <a:ln w="0">
            <a:noFill/>
          </a:ln>
        </p:spPr>
        <p:txBody>
          <a:bodyPr anchor="t">
            <a:normAutofit/>
          </a:bodyPr>
          <a:p>
            <a:pPr lvl="2"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raph 1:</a:t>
            </a:r>
            <a:r>
              <a:rPr b="0" lang="en-US" sz="2400" spc="-1" strike="noStrike">
                <a:solidFill>
                  <a:srgbClr val="000000"/>
                </a:solidFill>
                <a:latin typeface="Arial Narrow"/>
              </a:rPr>
              <a:t> Net Capital Flows to Mozambique (1999-2010)</a:t>
            </a: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urces:</a:t>
            </a:r>
            <a:r>
              <a:rPr b="0" lang="en-US" sz="1600" spc="-1" strike="noStrike">
                <a:solidFill>
                  <a:srgbClr val="000000"/>
                </a:solidFill>
                <a:latin typeface="Arial"/>
              </a:rPr>
              <a:t> Bank of Mozambique and National Statistical Institute</a:t>
            </a:r>
            <a:endParaRPr b="0" lang="en-US" sz="1600" spc="-1" strike="noStrike">
              <a:solidFill>
                <a:srgbClr val="000000"/>
              </a:solidFill>
              <a:latin typeface="Arial"/>
            </a:endParaRPr>
          </a:p>
          <a:p>
            <a:pPr lvl="2"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D030-781E-4534-8212-F863D849D1B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E9D2-ABAB-4026-84E7-653B6F78B2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2" name="Object 3"/>
          <p:cNvGraphicFramePr/>
          <p:nvPr/>
        </p:nvGraphicFramePr>
        <p:xfrm>
          <a:off x="395280" y="1628640"/>
          <a:ext cx="8353440" cy="3816360"/>
        </p:xfrm>
        <a:graphic>
          <a:graphicData uri="http://schemas.openxmlformats.org/presentationml/2006/ole">
            <p:oleObj progId="Excel.Sheet.12" r:id="rId1" spid="">
              <p:embed/>
              <p:pic>
                <p:nvPicPr>
                  <p:cNvPr id="83" name="Object 3" descr=""/>
                  <p:cNvPicPr/>
                  <p:nvPr/>
                </p:nvPicPr>
                <p:blipFill>
                  <a:blip r:embed="rId2"/>
                  <a:stretch/>
                </p:blipFill>
                <p:spPr>
                  <a:xfrm>
                    <a:off x="395280" y="1628640"/>
                    <a:ext cx="835344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0T13:42:44Z</dcterms:created>
  <dc:creator>Edson Manguinhane</dc:creator>
  <dc:description/>
  <dc:language>en-US</dc:language>
  <cp:lastModifiedBy>dt</cp:lastModifiedBy>
  <dcterms:modified xsi:type="dcterms:W3CDTF">2012-06-08T11:40:25Z</dcterms:modified>
  <cp:revision>60</cp:revision>
  <dc:subject/>
  <dc:title>EXCHANGE RATE VOLATILITY ACCOUNTING FOR MOZAMBIQUE: EXTERNAL VS. DOMESTIC SOURCES</dc:title>
</cp:coreProperties>
</file>